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E1C8E6-FD87-4BBA-BEB0-21CCA6D57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2BAFB-67D1-4596-AA5D-AD6B666FD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F5691-CA51-4536-A6FA-ACB3AF7FC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7610F-FEE8-4E6D-9028-9CEEEA267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A3D542-D423-4A7B-8BFA-8FBCD1382A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49997-994A-4C29-AEA6-9F35694D8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D5692-2312-47F2-9AEC-C0CBD23B8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CF1DF-BCAF-4167-B8F1-891CA4167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B03F-AB83-4CEA-8C8B-8FD1E4D5C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7447A-4423-485B-96EE-8FAFAD9A7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6E366-2085-4258-BB9A-5F3045451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D6159-DD55-4749-B42A-FA16118084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2AF6D-5FC2-4789-A412-E7AA002FE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DDB25-CC65-462E-86FF-467A33886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66117-C2F8-46E7-BBD4-EAEC5E0D3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9F53B-BBC5-4468-9552-FCA7DF91C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715F2-828A-4B8E-8A2A-F0FFC4954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F2CBE-0986-4D72-80DD-50DD36641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622E5-BC75-4D8F-A905-116DD6007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8563C-71E7-41DC-A692-83713057C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14C59-9C13-40B1-B5ED-1F5217BFF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1CAC4-2D8C-4187-B1B1-1B462ABB9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398DE-FA18-44D9-8849-926B64CAF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E6440-98FF-4B1D-A0D9-8B565C906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lgn="r" rtl="1">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lgn="r" rtl="1">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4A3E-5DE8-4011-B435-BF2CE5C5B409}"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26967-8166-4257-9459-44BCD5A57960}" type="slidenum">
              <a:rPr b="0" lang="ar-SA"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80640"/>
            <a:ext cx="7772400" cy="201636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500" spc="-1" strike="noStrike">
                <a:solidFill>
                  <a:srgbClr val="000000"/>
                </a:solidFill>
                <a:latin typeface="Arial"/>
                <a:cs typeface="khalaad al-arabeh"/>
              </a:rPr>
              <a:t>تنمية مهارات التفكير</a:t>
            </a:r>
            <a:endParaRPr b="0" lang="en-US" sz="8500" spc="-1" strike="noStrike">
              <a:solidFill>
                <a:srgbClr val="000000"/>
              </a:solidFill>
              <a:latin typeface="Arial"/>
            </a:endParaRPr>
          </a:p>
        </p:txBody>
      </p:sp>
      <p:sp>
        <p:nvSpPr>
          <p:cNvPr id="87" name="PlaceHolder 2"/>
          <p:cNvSpPr>
            <a:spLocks noGrp="1"/>
          </p:cNvSpPr>
          <p:nvPr>
            <p:ph type="subTitle"/>
          </p:nvPr>
        </p:nvSpPr>
        <p:spPr>
          <a:xfrm>
            <a:off x="1403280" y="4652640"/>
            <a:ext cx="6400800" cy="13921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عداد المشرف التربو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عيسى الحربي</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khalaad al-arabeh"/>
              </a:rPr>
              <a:t>إدارة التربية والتعليم بمحافظة القريات</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موضوعات ذات علاقة </a:t>
            </a:r>
            <a:br>
              <a:rPr sz="4400"/>
            </a:br>
            <a:r>
              <a:rPr b="0" lang="hi-IN" sz="4400" spc="-1" strike="noStrike">
                <a:solidFill>
                  <a:srgbClr val="8c0039"/>
                </a:solidFill>
                <a:latin typeface="Arial"/>
                <a:cs typeface="khalaad al-arabeh"/>
              </a:rPr>
              <a:t>بتنمية مهارات التفكير</a:t>
            </a:r>
            <a:endParaRPr b="0" lang="en-US" sz="4400" spc="-1" strike="noStrike">
              <a:solidFill>
                <a:srgbClr val="8c0039"/>
              </a:solidFill>
              <a:latin typeface="Arial"/>
            </a:endParaRPr>
          </a:p>
        </p:txBody>
      </p:sp>
      <p:sp>
        <p:nvSpPr>
          <p:cNvPr id="10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بلوم.</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هرم ماسلو.</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جدول المواصفات.</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سئلة الصفية.</a:t>
            </a:r>
            <a:endParaRPr b="0" lang="en-US" sz="3600" spc="-1" strike="noStrike">
              <a:solidFill>
                <a:srgbClr val="000000"/>
              </a:solidFill>
              <a:latin typeface="Arial"/>
            </a:endParaRPr>
          </a:p>
          <a:p>
            <a:pPr lvl="2" marL="1143000" indent="-2286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ea typeface="AdvertisingMedium"/>
              </a:rPr>
              <a:t> الاختبار.</a:t>
            </a:r>
            <a:endParaRPr b="0" lang="en-US" sz="3600" spc="-1" strike="noStrike">
              <a:solidFill>
                <a:srgbClr val="000000"/>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مثلة على برامج تعليم التفكير</a:t>
            </a:r>
            <a:endParaRPr b="0" lang="en-US" sz="4400" spc="-1" strike="noStrike">
              <a:solidFill>
                <a:srgbClr val="8c0039"/>
              </a:solidFill>
              <a:latin typeface="Arial"/>
            </a:endParaRPr>
          </a:p>
        </p:txBody>
      </p:sp>
      <p:sp>
        <p:nvSpPr>
          <p:cNvPr id="107" name="PlaceHolder 1"/>
          <p:cNvSpPr>
            <a:spLocks noGrp="1"/>
          </p:cNvSpPr>
          <p:nvPr>
            <p:ph/>
          </p:nvPr>
        </p:nvSpPr>
        <p:spPr>
          <a:xfrm>
            <a:off x="2438280" y="2189160"/>
            <a:ext cx="6400800" cy="390672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كورت </a:t>
            </a:r>
            <a:r>
              <a:rPr b="0" lang="en-US" sz="4400" spc="-1" strike="noStrike">
                <a:solidFill>
                  <a:srgbClr val="3c41a8"/>
                </a:solidFill>
                <a:latin typeface="Arial"/>
                <a:ea typeface="AdvertisingMedium"/>
              </a:rPr>
              <a:t>CORT</a:t>
            </a:r>
            <a:r>
              <a:rPr b="0" lang="ar-SA" sz="4400" spc="-1" strike="noStrike">
                <a:solidFill>
                  <a:srgbClr val="3c41a8"/>
                </a:solidFill>
                <a:latin typeface="Arial"/>
                <a:ea typeface="AdvertisingMedium"/>
              </a:rPr>
              <a:t>.</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قبعات الست.</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c41a8"/>
                </a:solidFill>
                <a:latin typeface="Arial"/>
                <a:cs typeface="AdvertisingMedium"/>
              </a:rPr>
              <a:t>برنامج المفكر المبدع.</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09" name="PlaceHolder 2"/>
          <p:cNvSpPr>
            <a:spLocks noGrp="1"/>
          </p:cNvSpPr>
          <p:nvPr>
            <p:ph/>
          </p:nvPr>
        </p:nvSpPr>
        <p:spPr>
          <a:xfrm>
            <a:off x="2438280" y="1989000"/>
            <a:ext cx="6400800" cy="4106880"/>
          </a:xfrm>
          <a:prstGeom prst="rect">
            <a:avLst/>
          </a:prstGeom>
          <a:noFill/>
          <a:ln w="0">
            <a:noFill/>
          </a:ln>
        </p:spPr>
        <p:txBody>
          <a:bodyPr lIns="90000" rIns="90000" tIns="46800" bIns="46800" anchor="t">
            <a:normAutofit fontScale="80000"/>
          </a:bodyPr>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صاحب الكلمة الأولى والأخيرة في الصف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معلم هو مركز الفعل ويحتكر معظم وقت الحصة والطلبة خاملون </a:t>
            </a:r>
            <a:endParaRPr b="0" lang="en-US" sz="3600" spc="-1" strike="noStrike">
              <a:solidFill>
                <a:srgbClr val="000000"/>
              </a:solidFill>
              <a:latin typeface="Arial"/>
            </a:endParaRPr>
          </a:p>
          <a:p>
            <a:pPr marL="274320" indent="-274320" algn="just" rtl="1">
              <a:spcBef>
                <a:spcPts val="2251"/>
              </a:spcBef>
              <a:buClr>
                <a:srgbClr val="0033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cc"/>
                </a:solidFill>
                <a:latin typeface="Arial"/>
                <a:cs typeface="AdvertisingMedium"/>
              </a:rPr>
              <a:t>الكتاب المدرسي المقرر هو المرجع الوحيد للمعلم في أغلب الأحيان .</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1" name="PlaceHolder 2"/>
          <p:cNvSpPr>
            <a:spLocks noGrp="1"/>
          </p:cNvSpPr>
          <p:nvPr>
            <p:ph/>
          </p:nvPr>
        </p:nvSpPr>
        <p:spPr>
          <a:xfrm>
            <a:off x="2195280" y="1557360"/>
            <a:ext cx="6616440" cy="4896000"/>
          </a:xfrm>
          <a:prstGeom prst="rect">
            <a:avLst/>
          </a:prstGeom>
          <a:noFill/>
          <a:ln w="0">
            <a:noFill/>
          </a:ln>
        </p:spPr>
        <p:txBody>
          <a:bodyPr lIns="90000" rIns="90000" tIns="46800" bIns="4680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يعتمد المعلم على عدد محدود من الطلبة ، يوجه إليهم أسئلة دائما لإنقاذ الموقف والإجابة عن السؤال الصعب.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33cc"/>
                </a:solidFill>
                <a:latin typeface="Arial"/>
                <a:cs typeface="AdvertisingMedium"/>
              </a:rPr>
              <a:t>المعلم مغرم بإصدار الاحكام والتعليقات المحبطة لمن يجيبون بطريقة مختلفة عما يفكرون فيه ، </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المعلم لايتقبل الأفكار الغريبة أو الأسئلة الخارجية عن موضوع الدرس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معظم أسئلة المعلم من النوع الذي يتطلب مهارات تفكير متدنية .</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1600" indent="-2916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Arial"/>
                <a:cs typeface="AdvertisingMedium"/>
              </a:rPr>
              <a:t>نادراً ما يسأل المعلم أسئلة تبدأ بكيف ؟ ولماذا ؟ وماذا لو.</a:t>
            </a:r>
            <a:endParaRPr b="0" lang="en-US" sz="3200" spc="-1" strike="noStrike">
              <a:solidFill>
                <a:srgbClr val="000000"/>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5" name="PlaceHolder 2"/>
          <p:cNvSpPr>
            <a:spLocks noGrp="1"/>
          </p:cNvSpPr>
          <p:nvPr>
            <p:ph/>
          </p:nvPr>
        </p:nvSpPr>
        <p:spPr>
          <a:xfrm>
            <a:off x="2438280" y="1599840"/>
            <a:ext cx="6400800" cy="4924440"/>
          </a:xfrm>
          <a:prstGeom prst="rect">
            <a:avLst/>
          </a:prstGeom>
          <a:noFill/>
          <a:ln w="0">
            <a:noFill/>
          </a:ln>
        </p:spPr>
        <p:txBody>
          <a:bodyPr lIns="90000" rIns="90000" tIns="46800" bIns="46800" anchor="t">
            <a:normAutofit fontScale="83000"/>
          </a:bodyPr>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أحياناً يعاقب المعلم التلميذ على التساؤل ويتعرض للسخري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ميل المعلم نحو مكافأة التلاميذ الذين يبدون سلوك الطاعة والإذعان والمسايرة .</a:t>
            </a:r>
            <a:endParaRPr b="0" lang="en-US" sz="3200" spc="-1" strike="noStrike">
              <a:solidFill>
                <a:srgbClr val="000000"/>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4400" indent="-2844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عتقد المعلم أن مهارات التفكير توجد وتنمو مع نمو جسم الإنسان ولذا فالتعلم قليل التأثير فيها كماً ونوعاً.</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7" name="PlaceHolder 2"/>
          <p:cNvSpPr>
            <a:spLocks noGrp="1"/>
          </p:cNvSpPr>
          <p:nvPr>
            <p:ph/>
          </p:nvPr>
        </p:nvSpPr>
        <p:spPr>
          <a:xfrm>
            <a:off x="2438280" y="1600200"/>
            <a:ext cx="6400800" cy="499752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نادراً ما يعتمد المعلم على أساليب حديثة لتوصيل المعلومات كأسلوب البحث والاستقصاء والنقاش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المعلم يفضل الطالب الحافظ على الطالب المبتكر .</a:t>
            </a:r>
            <a:endParaRPr b="0" lang="en-US" sz="3200" spc="-1" strike="noStrike">
              <a:solidFill>
                <a:srgbClr val="000000"/>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صر المعلم في الغالب على ممارسة دوره التقليدي في تزويد الطلاب بالمعلومات ومطالبتهم بالحفظ والاسترجاع.</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19" name="PlaceHolder 2"/>
          <p:cNvSpPr>
            <a:spLocks noGrp="1"/>
          </p:cNvSpPr>
          <p:nvPr>
            <p:ph/>
          </p:nvPr>
        </p:nvSpPr>
        <p:spPr>
          <a:xfrm>
            <a:off x="2123640" y="1599840"/>
            <a:ext cx="6715080" cy="52578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0033cc"/>
                </a:solidFill>
                <a:latin typeface="Arial"/>
                <a:cs typeface="AdvertisingMedium"/>
              </a:rPr>
              <a:t>يقوم المعلم طلابه في الغالب من خلال استظهار المعلومات التي يفترض انهم حفظوها مسبقاً.</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حصل المتعلم في الغالب على تعزيز لفظي نمطي على تحصيله وحفظه وليس على إبداعه فالأخير ربما يقابل بفتور  .</a:t>
            </a:r>
            <a:endParaRPr b="0" lang="en-US" sz="3200" spc="-1" strike="noStrike">
              <a:solidFill>
                <a:srgbClr val="000000"/>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cc"/>
                </a:solidFill>
                <a:latin typeface="Arial"/>
                <a:cs typeface="AdvertisingMedium"/>
              </a:rPr>
              <a:t>يندر استخدام المعلم لاستراتيجيات التعلم التعاوني.</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1" name="PlaceHolder 2"/>
          <p:cNvSpPr>
            <a:spLocks noGrp="1"/>
          </p:cNvSpPr>
          <p:nvPr>
            <p:ph/>
          </p:nvPr>
        </p:nvSpPr>
        <p:spPr>
          <a:xfrm>
            <a:off x="2339640" y="1600200"/>
            <a:ext cx="649908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hi-IN" sz="3200" spc="-1" strike="noStrike">
                <a:solidFill>
                  <a:srgbClr val="3c41a8"/>
                </a:solidFill>
                <a:latin typeface="Arial"/>
                <a:cs typeface="AdvertisingMedium"/>
              </a:rPr>
              <a:t>تسود بين الطلاب مشاعر القلق والخوف والتوتر في جو يعتمد الأمان فيه على مقدار ما يحصل عليه الطالب من الدرجات ولذا ثقة الطالب في نفسه ليست مرتبطة بقدراته عدا الحفظ والاستظهار.</a:t>
            </a:r>
            <a:endParaRPr b="0" lang="en-US" sz="3200" spc="-1" strike="noStrike">
              <a:solidFill>
                <a:srgbClr val="000000"/>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lgn="r" rtl="1">
              <a:lnSpc>
                <a:spcPct val="9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3c41a8"/>
                </a:solidFill>
                <a:latin typeface="Arial"/>
                <a:cs typeface="AdvertisingMedium"/>
              </a:rPr>
              <a:t>لا توجد توقعات واضحة وايجابية لما ينتظر من الطلاب تحقيقه.</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معيقات تنمية مهارات التفكير</a:t>
            </a:r>
            <a:endParaRPr b="0" lang="en-US" sz="5400" spc="-1" strike="noStrike">
              <a:solidFill>
                <a:srgbClr val="8c0039"/>
              </a:solidFill>
              <a:latin typeface="Arial"/>
            </a:endParaRPr>
          </a:p>
        </p:txBody>
      </p:sp>
      <p:sp>
        <p:nvSpPr>
          <p:cNvPr id="123" name="PlaceHolder 2"/>
          <p:cNvSpPr>
            <a:spLocks noGrp="1"/>
          </p:cNvSpPr>
          <p:nvPr>
            <p:ph/>
          </p:nvPr>
        </p:nvSpPr>
        <p:spPr>
          <a:xfrm>
            <a:off x="2195640" y="1599840"/>
            <a:ext cx="6643440" cy="4853160"/>
          </a:xfrm>
          <a:prstGeom prst="rect">
            <a:avLst/>
          </a:prstGeom>
          <a:noFill/>
          <a:ln w="0">
            <a:noFill/>
          </a:ln>
        </p:spPr>
        <p:txBody>
          <a:bodyPr lIns="90000" rIns="90000" tIns="46800" bIns="46800" anchor="t">
            <a:normAutofit fontScale="93000"/>
          </a:bodyPr>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ميل الطلاب لمسايرة بعضهم فكريا ويفكرون في الغالب بعقل معلمهم أو عقول الآخرين .</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المعلم في الغالب لم يعد يلعب دور النموذج لطلابه و احياناً يصبح الطالب هو النموذج.</a:t>
            </a:r>
            <a:endParaRPr b="0" lang="en-US" sz="3200" spc="-1" strike="noStrike">
              <a:solidFill>
                <a:srgbClr val="000000"/>
              </a:solidFill>
              <a:latin typeface="Arial"/>
            </a:endParaRPr>
          </a:p>
          <a:p>
            <a:pPr marL="3189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gn="r" rtl="1">
              <a:lnSpc>
                <a:spcPct val="8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يصعب على المعلم الاعتراف بأخطائه وبخاصة عندما يأتي التصويب من الطلاب .</a:t>
            </a:r>
            <a:br>
              <a:rPr sz="3200"/>
            </a:br>
            <a:r>
              <a:rPr b="0" lang="en-US" sz="3200" spc="-1" strike="noStrike">
                <a:solidFill>
                  <a:srgbClr val="3c41a8"/>
                </a:solidFill>
                <a:latin typeface="Arial"/>
              </a:rPr>
              <a:t> </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8c0039"/>
                </a:solidFill>
                <a:latin typeface="Angsana New"/>
                <a:cs typeface="khalaad al-arabeh"/>
              </a:rPr>
              <a:t>تعريف التفكير</a:t>
            </a:r>
            <a:endParaRPr b="0" lang="en-US" sz="48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3000"/>
          </a:bodyPr>
          <a:p>
            <a:pPr marL="318960" indent="-318960" algn="r" rtl="1">
              <a:spcBef>
                <a:spcPts val="134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c41a8"/>
                </a:solidFill>
                <a:latin typeface="Arial"/>
                <a:ea typeface="AdvertisingMedium"/>
              </a:rPr>
              <a:t> عبارة عن عملية عقلية يستطيع المتعلم عن طريقها عمل أي شيء ذي معنى من خلال الخبرة التي يمر بها</a:t>
            </a:r>
            <a:endParaRPr b="0" lang="en-US" sz="5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600"/>
            <a:ext cx="6400800" cy="22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c0039"/>
                </a:solidFill>
                <a:latin typeface="Arial"/>
                <a:cs typeface="khalaad al-arabeh"/>
              </a:rPr>
              <a:t>أتمنى التوفيق للجميع</a:t>
            </a:r>
            <a:endParaRPr b="0" lang="en-US" sz="6000" spc="-1" strike="noStrike">
              <a:solidFill>
                <a:srgbClr val="8c0039"/>
              </a:solidFill>
              <a:latin typeface="Arial"/>
            </a:endParaRPr>
          </a:p>
        </p:txBody>
      </p:sp>
      <p:sp>
        <p:nvSpPr>
          <p:cNvPr id="125" name="PlaceHolder 2"/>
          <p:cNvSpPr>
            <a:spLocks noGrp="1"/>
          </p:cNvSpPr>
          <p:nvPr>
            <p:ph/>
          </p:nvPr>
        </p:nvSpPr>
        <p:spPr>
          <a:xfrm>
            <a:off x="2438280" y="3716280"/>
            <a:ext cx="6400800" cy="2379600"/>
          </a:xfrm>
          <a:prstGeom prst="rect">
            <a:avLst/>
          </a:prstGeom>
          <a:noFill/>
          <a:ln w="0">
            <a:noFill/>
          </a:ln>
        </p:spPr>
        <p:txBody>
          <a:bodyPr lIns="90000" rIns="90000" tIns="46800" bIns="46800" anchor="t">
            <a:normAutofit fontScale="94000"/>
          </a:bodyPr>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المشرف التربو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عيسى الحربي</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khalaad al-arabeh"/>
              </a:rPr>
              <a:t>إدارة التربية والتعليم بمحافظة القريات</a:t>
            </a: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220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مفهوم مهارات التفكير</a:t>
            </a:r>
            <a:endParaRPr b="0" lang="en-US" sz="4800" spc="-1" strike="noStrike">
              <a:solidFill>
                <a:srgbClr val="8c0039"/>
              </a:solidFill>
              <a:latin typeface="Arial"/>
            </a:endParaRPr>
          </a:p>
        </p:txBody>
      </p:sp>
      <p:sp>
        <p:nvSpPr>
          <p:cNvPr id="9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6000"/>
          </a:bodyPr>
          <a:p>
            <a:pPr marL="294840" indent="-294840" algn="r" rtl="1">
              <a:lnSpc>
                <a:spcPct val="90000"/>
              </a:lnSpc>
              <a:spcBef>
                <a:spcPts val="11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3c41a8"/>
                </a:solidFill>
                <a:latin typeface="Arial"/>
                <a:ea typeface="AdvertisingMedium"/>
              </a:rPr>
              <a:t> تلك العمليات التي نقوم بها من أجل جمع المعلومات وحفظها أو تخزينها، وذلك من خلال إجراءات التحليل والتخطيط والتقييم والوصول إلى استنتاجات وصنع القرارت</a:t>
            </a:r>
            <a:endParaRPr b="0" lang="en-US" sz="4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مثلة على مهارات التفكير</a:t>
            </a:r>
            <a:endParaRPr b="0" lang="en-US" sz="4800" spc="-1" strike="noStrike">
              <a:solidFill>
                <a:srgbClr val="8c0039"/>
              </a:solidFill>
              <a:latin typeface="Arial"/>
            </a:endParaRPr>
          </a:p>
        </p:txBody>
      </p:sp>
      <p:sp>
        <p:nvSpPr>
          <p:cNvPr id="9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صنيف.</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استدلال.</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إصدار الأحكام.</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مقارنة.</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حل المشكلات.</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فسير.</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تلخيص</a:t>
            </a:r>
            <a:r>
              <a:rPr b="0" lang="en-US" sz="3200" spc="-1" strike="noStrike">
                <a:solidFill>
                  <a:srgbClr val="000000"/>
                </a:solidFill>
                <a:latin typeface="Arial"/>
                <a:ea typeface="AdvertisingMedium"/>
              </a:rPr>
              <a:t>.</a:t>
            </a:r>
            <a:endParaRPr b="0" lang="en-US" sz="3200" spc="-1" strike="noStrike">
              <a:solidFill>
                <a:srgbClr val="000000"/>
              </a:solidFill>
              <a:latin typeface="Arial"/>
            </a:endParaRPr>
          </a:p>
          <a:p>
            <a:pPr lvl="4" marL="2057400" indent="-228600" algn="r" rtl="1">
              <a:lnSpc>
                <a:spcPct val="90000"/>
              </a:lnSpc>
              <a:spcBef>
                <a:spcPts val="7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c41a8"/>
                </a:solidFill>
                <a:latin typeface="Arial"/>
                <a:cs typeface="AdvertisingMedium"/>
              </a:rPr>
              <a:t>مهارة العصف الذهني.</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8c0039"/>
                </a:solidFill>
                <a:latin typeface="Arial"/>
                <a:cs typeface="khalaad al-arabeh"/>
              </a:rPr>
              <a:t>أنماط التفكير</a:t>
            </a:r>
            <a:endParaRPr b="0" lang="en-US" sz="5400" spc="-1" strike="noStrike">
              <a:solidFill>
                <a:srgbClr val="8c0039"/>
              </a:solidFill>
              <a:latin typeface="Arial"/>
            </a:endParaRPr>
          </a:p>
        </p:txBody>
      </p:sp>
      <p:sp>
        <p:nvSpPr>
          <p:cNvPr id="95"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علم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ناقد.</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إبداعي.</a:t>
            </a:r>
            <a:endParaRPr b="0" lang="en-US" sz="4400" spc="-1" strike="noStrike">
              <a:solidFill>
                <a:srgbClr val="000000"/>
              </a:solidFill>
              <a:latin typeface="Arial"/>
            </a:endParaRPr>
          </a:p>
          <a:p>
            <a:pPr lvl="2" marL="1143000" indent="-228600" algn="r" rtl="1">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تفكير المنطقي.</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عوامل مؤثرة في تعليم التفكير</a:t>
            </a:r>
            <a:endParaRPr b="0" lang="en-US" sz="4800" spc="-1" strike="noStrike">
              <a:solidFill>
                <a:srgbClr val="8c0039"/>
              </a:solidFill>
              <a:latin typeface="Arial"/>
            </a:endParaRPr>
          </a:p>
        </p:txBody>
      </p:sp>
      <p:sp>
        <p:nvSpPr>
          <p:cNvPr id="97"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حتوى الدراس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خصائص الطالب النمائ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داف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مي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قدر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ئة المدرس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c41a8"/>
                </a:solidFill>
                <a:latin typeface="Arial"/>
                <a:cs typeface="AdvertisingMedium"/>
              </a:rPr>
              <a:t>البيت.</a:t>
            </a:r>
            <a:endParaRPr b="0" lang="en-US" sz="3600" spc="-1" strike="noStrike">
              <a:solidFill>
                <a:srgbClr val="000000"/>
              </a:solidFill>
              <a:latin typeface="Arial"/>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المكلفين بتنمية مهارات التفكير</a:t>
            </a:r>
            <a:endParaRPr b="0" lang="en-US" sz="4800" spc="-1" strike="noStrike">
              <a:solidFill>
                <a:srgbClr val="8c0039"/>
              </a:solidFill>
              <a:latin typeface="Arial"/>
            </a:endParaRPr>
          </a:p>
        </p:txBody>
      </p:sp>
      <p:sp>
        <p:nvSpPr>
          <p:cNvPr id="99"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شرف التربو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مدير المدرسة.</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علم.</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مرشد الطلابي.</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ولي أمر الطالب.</a:t>
            </a:r>
            <a:endParaRPr b="0" lang="en-US" sz="4400" spc="-1" strike="noStrike">
              <a:solidFill>
                <a:srgbClr val="000000"/>
              </a:solidFill>
              <a:latin typeface="Arial"/>
            </a:endParaRPr>
          </a:p>
          <a:p>
            <a:pPr lvl="2" marL="1143000" indent="-228600" algn="r" rtl="1">
              <a:lnSpc>
                <a:spcPct val="90000"/>
              </a:lnSpc>
              <a:spcBef>
                <a:spcPts val="1100"/>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c41a8"/>
                </a:solidFill>
                <a:latin typeface="Arial"/>
                <a:cs typeface="AdvertisingMedium"/>
              </a:rPr>
              <a:t>الطالب.</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8c0039"/>
                </a:solidFill>
                <a:latin typeface="Arial"/>
                <a:cs typeface="khalaad al-arabeh"/>
              </a:rPr>
              <a:t>أهمية تعليم التفكير للطالب</a:t>
            </a:r>
            <a:endParaRPr b="0" lang="en-US" sz="4400" spc="-1" strike="noStrike">
              <a:solidFill>
                <a:srgbClr val="8c0039"/>
              </a:solidFill>
              <a:latin typeface="Arial"/>
            </a:endParaRPr>
          </a:p>
        </p:txBody>
      </p:sp>
      <p:sp>
        <p:nvSpPr>
          <p:cNvPr id="101"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7000"/>
          </a:bodyPr>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قدير الذات.</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واقعي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عزيز التعلم الذات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تحرير العقول.</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ناخ الاجتماعي.</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استعداد للحياة.</a:t>
            </a:r>
            <a:endParaRPr b="0" lang="en-US" sz="3600" spc="-1" strike="noStrike">
              <a:solidFill>
                <a:srgbClr val="000000"/>
              </a:solidFill>
              <a:latin typeface="Arial"/>
            </a:endParaRPr>
          </a:p>
          <a:p>
            <a:pPr lvl="2" marL="1108440" indent="-221400" algn="r" rtl="1">
              <a:spcBef>
                <a:spcPts val="9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c41a8"/>
                </a:solidFill>
                <a:latin typeface="Arial"/>
                <a:cs typeface="AdvertisingMedium"/>
              </a:rPr>
              <a:t>المواطنة الصالحة.</a:t>
            </a:r>
            <a:endParaRPr b="0" lang="en-US" sz="3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2497680" y="287640"/>
            <a:ext cx="6282000" cy="1100520"/>
          </a:xfrm>
          <a:prstGeom prst="rect">
            <a:avLst/>
          </a:prstGeom>
          <a:noFill/>
          <a:ln w="0">
            <a:noFill/>
          </a:ln>
        </p:spPr>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8c0039"/>
                </a:solidFill>
                <a:latin typeface="Arial"/>
                <a:cs typeface="khalaad al-arabeh"/>
              </a:rPr>
              <a:t>أهمية التفكير للمعلم</a:t>
            </a:r>
            <a:endParaRPr b="0" lang="en-US" sz="4800" spc="-1" strike="noStrike">
              <a:solidFill>
                <a:srgbClr val="8c0039"/>
              </a:solidFill>
              <a:latin typeface="Arial"/>
            </a:endParaRPr>
          </a:p>
        </p:txBody>
      </p:sp>
      <p:sp>
        <p:nvSpPr>
          <p:cNvPr id="103" name="PlaceHolder 1"/>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1000"/>
          </a:bodyPr>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لمام بمختلف أنماط التعليم.</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زيادة الدافعية والنشاط لدى المعلمين.</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الإثارة والتعاون والمشاركة.</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ثقة المعلم بنفسه.</a:t>
            </a:r>
            <a:endParaRPr b="0" lang="en-US" sz="4000" spc="-1" strike="noStrike">
              <a:solidFill>
                <a:srgbClr val="000000"/>
              </a:solidFill>
              <a:latin typeface="Arial"/>
            </a:endParaRPr>
          </a:p>
          <a:p>
            <a:pPr lvl="2" marL="1040040" indent="-207720" algn="r" rtl="1">
              <a:spcBef>
                <a:spcPts val="10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c41a8"/>
                </a:solidFill>
                <a:latin typeface="Arial"/>
                <a:cs typeface="AdvertisingMedium"/>
              </a:rPr>
              <a:t>تعزيز الأداء بملاحظة الأثر.</a:t>
            </a:r>
            <a:endParaRPr b="0" lang="en-US" sz="4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4-12-24T20:07:22Z</dcterms:modified>
  <cp:revision>1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